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C81-E3DA-430A-9117-8C0584F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83B-6F5A-4B43-96B2-68AE9F5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982-478C-470C-AD5F-AE6AB01C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E53-9EE6-482F-92B2-F58F75B5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3E90-85DD-4DCF-A817-04D104BB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BBD3-ED59-4F56-BF20-19C3512D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6669-45D6-40F2-90CE-6AEA611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7F3-29A7-412E-9B9E-E834A84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369-D3E2-4D2C-A1D8-12DA526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1B75-915D-46F3-BF8E-C70614E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BE3C-8E6A-4062-A3C1-8F515C0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BDF-0E77-428E-A2BD-98A9E40B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344-669F-4D44-A287-2C31FD7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4440-F126-4F3A-BE64-24F2804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74E-AF50-4645-8B02-AE8A78F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4EC-E19F-44DE-BE41-4FE01CF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B64F-5BB4-40C2-AB00-06B7FCF3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372E5-6A3E-479E-A0E9-10481BF8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0E043-C48D-4C97-BB67-940E6DC3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1D6EE-9286-4CBA-8FBD-CE859309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CE0E2-AF7C-4451-B809-FAF8200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57697-1CB1-44D7-843A-F0325E7D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6C8-5220-480C-B7EA-6CEA07E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B365C-F1E1-42A2-9F5C-5E596091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02498-1E0B-4BAB-A523-2333B15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D9ACC-9D1C-4C22-B482-A9046B11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FC93A-D883-45A0-9163-94D50EF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AC28D-539D-44F3-9470-951618E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35A0D-E74A-4C99-94E1-6469C5CE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8EDE2-8D97-4354-8305-0DB8EA32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F98C-0F61-4A7D-9CA9-79404A52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EAF5-3C11-477E-B6FB-F91AD0D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17AD-AF5B-4413-A5A4-A3FC5BC5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A69-CD7C-4F7B-9297-FB107F78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8D86-7926-4954-97F1-7DD0A32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0112-A1DC-44A0-95D6-7AA2BEE2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0FBC-6DD5-4541-8A4F-8677FBB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786A-AE2B-473C-8DDA-792579B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26C98-2BA6-45BF-A1D2-A3C030C1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33FB-9092-431A-BBE6-8970C7D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08F3-467A-42B7-854D-0454D59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4483-9E00-42BF-A47C-5DA4AD2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8ACA-36DE-4FB5-9B2D-3BCA1911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D9AB7-9D66-4C60-91EF-9EE496F0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DB6-CC84-419C-928F-679F0D0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655F3-7BDA-4A3A-8EBD-696AAE8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B0821-DAEB-406A-B0E2-4B8674D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AE06E-9769-4BA2-8425-75085AE2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24D17-AFFA-49D8-8517-8CF3372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D7F0B-177A-46EC-9702-23C3DB68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79EEB-870F-4854-8E5F-67747ED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FF257-DE4B-4194-A83E-8A80AA2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423FE-5DC2-430F-8953-17ADEFA5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61D8A-794C-4AC8-88DD-49FA927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A9E3D-DF6B-4B2C-A0E4-CB5CE8F5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346-815E-4D70-8599-794D4A25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124F7-882B-4A20-9C7D-AD83DA97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4EECC-8C04-42D8-ACB7-0854A808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B4D3D-16D8-430B-80A2-C51DAD2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D5AD2-F3AE-4921-82AE-4DCD38C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5AB14-AAE0-45D9-A667-35E5CE9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7F1A5-2F55-4C13-A703-5E7B4F4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F7D76-8DED-4391-BD40-C1DB1A3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0567C-86DD-47F6-9214-8E6A207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FC98D-69D5-48D8-B352-C210EFE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85AC3-D806-4AAB-84CB-18C8C9C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A49-8189-42DC-8918-3C263638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7FB14-1B74-4F25-B704-55AF98C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A80D2-7C95-49AC-BE8A-5690A72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6FE67-0CCF-4BB9-AAF6-C9BA51E6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58C29-17B8-44ED-8A97-5469899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0A881-CE39-4127-9466-3700BF33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9ECCF-CF75-42E7-931A-76A67AD5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35A90-E971-4732-B655-82406B0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93618-CDC2-4BE5-88BE-4E72A443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28942-C9E8-4C48-B549-AD57139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67061-4957-471B-9DDC-9013973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B61-13D7-45F2-A47A-31B9525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CC871-E21F-48B4-9557-E80D763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670D2-D0CE-404B-90FC-E708CB0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51C60-58D8-47BA-99B0-2F45DBF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E3901-329F-4A1A-84E2-C1D40B21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30DEE-83FD-4A43-89EF-9A1B35DD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A2A-4A90-48DC-92BE-C788853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AC74E-6347-49C5-8188-61CA7B9E9BD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F9A9A-C549-460A-AE8C-99C1ADEB9E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CC6A8-FED7-43E2-BD77-2ED3297EF4C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DCC00-511D-40BF-93F3-A9B346C993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48B1C-1C2B-47F0-A0B9-7A6CAEC9426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F2ABA-B9E3-4963-AD14-C0E2603AD1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0CD11-CEC8-4497-B18F-9E75159DB495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C2562-2BC1-4CB2-AA6C-1A89546BC9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32DB-BC2F-4E80-B68A-5AEBED9BFAE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F7D57-459C-455F-8545-00D5E4D907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8E33D-551C-44C0-8AC2-B2915304D16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11A0B-0919-4CD0-9D82-8BE3925026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43B4F-C71C-47FB-8DD5-71B4CE331E8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E8FC1-D7D4-4DCB-9844-689F7CADB8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AST CHANCE AP BIOLOGY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HYPO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educated gu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THEOR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explanation supported by an abundance of facts and evide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SEXUAL REPRODUC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tion with one organ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by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dding or fi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spring are identical to par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XUAL REPRODUC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production between two organis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g and spe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spring are different from par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ABIOTIC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 living component of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, wind, temperature, soil, rock, gas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BIOTIC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ving thing in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s, animals, 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AUTOTROPH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f fee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 energy from the sun, like pla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HETEROTROPH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anisms that have to eat to get food, like anim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CARN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t ea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ons, tig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HERB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 ea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IPS FOR THE MC QUESTION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swer EVERY qu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iminates wrong answers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 educated guesses when nece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know NOTHING and can’t eliminate even 1, choose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OMNIVOR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t both plants and m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cess by which plants turn sunlight into A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EQUATION FOR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xygen + gluc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2 + H2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2 + C6H12O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2 STAGES OF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reactions (make oxyg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vin Cycle (Dark Reactions-make glucos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HAPPENS TO ENERGY GOING UP A TROPHIC LEV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ly 10% goes 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other 90% is lost to the environment as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FOOD CHAI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low of energy through organisms in an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FOOD WEB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food chains toge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KEYSTONE SPECI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that affects all the ot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ually a pl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UCCESS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organisms grow back after a catastrophe destroys an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plants, like mosses, lichens, and grass, grow back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LIMITING FACT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hing that limits the size of a pop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s it from growing exponenti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IPS FOR THE FRQ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el all s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low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swer the ques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vocab and define 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neatly and clear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el all graphs (title, axis, UNITS et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MAT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IS A PROT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ly charged sub 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AND WHAT IS AN ELECTR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gatively charged sub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hells around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IS THE NEUTR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tral subatomic parti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PROT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e as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ELECTR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e as the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YOU KNOW HOW MANY NEUTRONS ARE IN AN ATO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omic mass minus atomic numb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MANY ELECTRONS ARE IN EACH SHEL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in the fi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 in the seco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KIND OF BONDS ARE BETWEEN WATER MOLECU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drogen bo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 HYDROGEN BONDS CAUSE BETWEEN WATER MOLECUL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face 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ECOLOG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tudy of the interactions of organisms and their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OLA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ing a negative end and a positive 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ygen is negative, hydrogen is pos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OTHER PROPERTIES OF WA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be solid, liquid, or g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ce is less dense than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gulates body 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3 POLYSACCHARI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POLYSACCHARIDES (CARBS)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uct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ENZYM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eds up chemical reactions by lowering activation ener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ataly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ds in -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BUILDING BLOCKS OF NUCLEIC ACID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cleoti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, T, C and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THINGS ARE MADE OF PROTEI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i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3 THINGS DO ONLY PLANT CELLS HAV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wa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cuo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ROKARYO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without a nucle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HYPERTONIC? HYPOTONIC? ISOTON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more solute tha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less solute than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lution has the same amount of solute as the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BIOLOG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y study of lif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PLASMOLY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shrin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water lea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CYTOLY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 swell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e to water entering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OSM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diffusion of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A CELL HAS 26 CHROMOSOMES, HOW MANY DOES IT HAVE AFTER MIT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A CELL HAS 26 CHROMOSOMES, HOW MANY DOES IT HAVE AFTER MEIO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AND DESCRIBE THE STAGES OF MITOSIS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phase-chromosomes conden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phase-chromosomes line up in the mid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phase-chromosomes begin to sepa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lophase-nuclei sepa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tokinesis-cytoplasm separates into 2 new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FERMENT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llular respiration when there is no oxy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erob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 ATP is produc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N DOES CROSSING OVER OCCU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phase I of mei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s genetic var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HETEROZYGOU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dominant allele, one recess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 is dominant tra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GENOTYPE? PHENOTYP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otype=g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enotype=physical characterist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STEPS OF THE SCIENTIFIC METHO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DIHYBRID CROSS WITH 2 HETEROZYGOUS ORGANISMS GIVE WHAT RATI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9:3:3: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REPLIC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DNA makes a copy of itsel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RANSCRIPTION? TRANSLATIO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cription is DNA to R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lation is RNA to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3 DIFFERENCES BETWEEN DNA AND RNA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is double stran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has deoxyrib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NA has T and RNA has 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NUCLEOTIDE BASES AND THEIR MATCH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-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-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SEX CHROMOSOME DOES A FATHER GIVE TO A DAUGHT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ST SOME SEX LINKED DISEA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r blind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ld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mophil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KARYOTYP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cture of all 23 pairs of chromos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SOME TYPES OF FOSSIL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l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bon fil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ce, amber, t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WERE THE FIRST PRIMAT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simi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murs, lori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CONTROL GROU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group in which nothing is changed or manipul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DO OLD WORLD MONKEYS LIVE? TAILS OR NO TAIL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frica and/or As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ai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DISCOVERED LUCY? WHAT DID WE LEARN FROM H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Leake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minids evolved bipedalism early in their 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ORGAN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something has carb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CAN CARBON BOND WITH SO MANY OTHER THING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electrons in the outer shell, can make 4 bo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ISOME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an atom has a different number of neut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CATABOLIC/ANABOLIC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tabolic: breaking molecules, releasing energy, exergonic, cellular respi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bolic: building molecules, needs energy, endergonic, photosynth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MAKES UP OUR CELL MEMBRAN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spholipids (bilayer, polar heads face out hydrophilic; non-polar hydrophobic tails face 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RIBOSOM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 prote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LYSOSOM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gest th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A VACUOLE DO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ld wa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N INDEPENDENT VARIABL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ariable being changed by the experimen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SEMI PERMEABLE MEAN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things can go through and some can’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AND WHAT COMES OUT OF EACH STEP OF CELL RES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ATP, 2 NADH, 2 pyruvic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eb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rix of mitochond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ATP, 6 NADH, 2 FADH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stae of mitochond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er, 34 ATP through oxidative phosphory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ND WHERE AND WHAT COMES OUT OF THE 2 STEPS OF PHOTOSYNTHES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dependent re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ylakoid Membrane of chloropla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xygen, ATP, NAD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rk, Calvin, Light independent rea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oma (fluid in chloropla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ucose, ADP, and NA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OPENINGS IN LEAVES FOR CO2 AND WATER CALLE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FLUID IN A CHLOROPLAST CALLE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ARE THE 5 KINGDOMS OF LIF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ls (multi celled eukaryotes, heter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ts (multi celled eukaryotes, aut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gi (multi celled eukaryotes, heterotroph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ista (single celled eukaryo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era (prokaryot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ICH 2 ANIMAL PHYLA HAVE DEUTEROSTOMES AND WHAT DOES IT MEAN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r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ns anus forms first as fe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COELOM AND WHO HAS THE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dy ca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llusks and higher on the evolutionary tr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MAIN UNIT IN THE KIDNE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ph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DOES THE ENDOCRINE SYSTEM MAKE AND WHE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kes horm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la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DEPENDENT VARIABL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hing that changes or is being measu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THE ENDOSYMBIOTIC THEORY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tochondria and chloroplasts were free li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 were absorbed by prokaryo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then evolved into eukaryotes (like 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know because mitochondria and chloroplasts have D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7:56:17Z</dcterms:created>
  <dc:creator>Becky</dc:creator>
  <dc:description/>
  <dc:language>en-US</dc:language>
  <cp:lastModifiedBy>Becky</cp:lastModifiedBy>
  <dcterms:modified xsi:type="dcterms:W3CDTF">2011-05-04T18:12:13Z</dcterms:modified>
  <cp:revision>16</cp:revision>
  <dc:subject/>
  <dc:title>Final Exam </dc:title>
</cp:coreProperties>
</file>